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0F0-0655-4AC9-AE59-5C7ACED6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ED9-0345-4A93-A953-1CFA4113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938-9938-4D15-B6F5-B605E0B9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2F6-35EC-4E1C-8333-AC0ABF76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4CF-26BB-4D51-A1FA-4C07B05C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8EE-BF54-44DD-8A17-BB1CC04C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7BE-AF2F-4EB3-8E03-7B61E199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B3A-3D33-429A-B3C1-19383ACD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258-B3F1-481B-8555-A71322A4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50B-D34D-4DE1-BD17-D5ECD151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223-6AFA-4956-9150-A7607F4D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FEB-5196-4055-8A3A-15BDD175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DC6A-E022-46F5-AAB3-2C62D9127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505480" cy="560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0560" y="380880"/>
            <a:ext cx="64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0440" y="3203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8138880" y="-33480"/>
            <a:ext cx="511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Скругленный прямоугольник 4"/>
          <p:cNvSpPr/>
          <p:nvPr/>
        </p:nvSpPr>
        <p:spPr>
          <a:xfrm>
            <a:off x="1066680" y="5562720"/>
            <a:ext cx="76964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ение 1 стр. 265 – 2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65040" y="878040"/>
            <a:ext cx="8645760" cy="5236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38680" y="2286000"/>
            <a:ext cx="931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есть несколько стран,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х расположены на двух матер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и страны, которые лежат в двух ча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а. Найдите 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, занимающую целый мате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рану, занимающую больш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крупнейшего архипел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-19080" y="255600"/>
            <a:ext cx="9182160" cy="631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80880" y="9907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ой океан занимает 75% площади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– это огромные участки суши, со всех сторон или почти со всех окруженные водой. На Земле 6 мат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или их части вместе с близко расположенными к ним островами образуют части света. Частей света , как и материков, - 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кеанах Земли находятся десятки тысяч островов. По происхождению выделяют материковые, вулканические и коралловые ост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609480" y="990720"/>
            <a:ext cx="7925040" cy="4572000"/>
          </a:xfrm>
          <a:prstGeom prst="roundRect">
            <a:avLst>
              <a:gd name="adj" fmla="val 16667"/>
            </a:avLst>
          </a:prstGeom>
          <a:solidFill>
            <a:srgbClr val="00ffff">
              <a:alpha val="4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632760" y="3048120"/>
            <a:ext cx="18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20040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Закат"/>
          <p:cNvPicPr/>
          <p:nvPr/>
        </p:nvPicPr>
        <p:blipFill>
          <a:blip r:embed="rId3"/>
          <a:stretch/>
        </p:blipFill>
        <p:spPr>
          <a:xfrm>
            <a:off x="-457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791320" y="3733920"/>
            <a:ext cx="131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.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60" y="152280"/>
            <a:ext cx="90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ерхность земного шара  - 510 млн.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-533520" y="38088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3808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1176480"/>
            <a:ext cx="7620120" cy="568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0440" y="228600"/>
            <a:ext cx="81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рупнейшие массивы суши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енные со всех сторон океанами и мор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126240" y="0"/>
            <a:ext cx="24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0666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107680" y="114300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0040" y="17524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7680" y="175248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,3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3480" y="2328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вер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183640" y="2362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4,2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90520" y="301464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ж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167800" y="2938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,8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66840" y="37004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20440" y="36241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7080" y="426708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и Оке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267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473080" y="423396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58040" y="0"/>
            <a:ext cx="88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сторически сложившиеся наз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х объектов. Включают матер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щиеся к н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052800" y="1792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00360" y="13381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18440" y="126216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Эреб» - зак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360" y="19479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795480" y="17953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Асу» - восх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900000" y="248112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99640" y="301464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0240" y="358128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900000" y="41576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947760" y="354816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Южн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24440" y="408132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ротивомедвежь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71080" y="240516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енная», «жарк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2819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55680" y="1752480"/>
            <a:ext cx="100080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7920" y="1676520"/>
            <a:ext cx="1486800" cy="33732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286000" y="3124080"/>
            <a:ext cx="2438280" cy="1905120"/>
          </a:xfrm>
          <a:prstGeom prst="wedgeRectCallout">
            <a:avLst>
              <a:gd name="adj1" fmla="val 3449"/>
              <a:gd name="adj2" fmla="val -11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в – это часть с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ная со всех сторон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952880" y="4191120"/>
            <a:ext cx="2133720" cy="1447560"/>
          </a:xfrm>
          <a:prstGeom prst="wedgeRectCallout">
            <a:avLst>
              <a:gd name="adj1" fmla="val -20111"/>
              <a:gd name="adj2" fmla="val -180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остров – это часть су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енная с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7162920" y="3505320"/>
            <a:ext cx="1981080" cy="1904760"/>
          </a:xfrm>
          <a:prstGeom prst="wedgeRectCallout">
            <a:avLst>
              <a:gd name="adj1" fmla="val -57851"/>
              <a:gd name="adj2" fmla="val -107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пелаг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группа остров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щиеся  близко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223720" y="54100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Грен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.   Мадагаск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12840" y="58672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-в Камча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ави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979320" y="594360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лайский а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ипел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3505320"/>
            <a:ext cx="2133720" cy="2209680"/>
          </a:xfrm>
          <a:prstGeom prst="wedgeRectCallout">
            <a:avLst>
              <a:gd name="adj1" fmla="val -7217"/>
              <a:gd name="adj2" fmla="val -11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-это огромный участок суши в Миров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1752480"/>
            <a:ext cx="1981440" cy="304920"/>
          </a:xfrm>
          <a:prstGeom prst="rect">
            <a:avLst/>
          </a:prstGeom>
          <a:solidFill>
            <a:srgbClr val="e45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25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925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21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71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371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а, архипелаги и полу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2600[1]"/>
          <p:cNvPicPr/>
          <p:nvPr/>
        </p:nvPicPr>
        <p:blipFill>
          <a:blip r:embed="rId2"/>
          <a:stretch/>
        </p:blipFill>
        <p:spPr>
          <a:xfrm>
            <a:off x="228600" y="914400"/>
            <a:ext cx="216216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601[1]"/>
          <p:cNvPicPr/>
          <p:nvPr/>
        </p:nvPicPr>
        <p:blipFill>
          <a:blip r:embed="rId3"/>
          <a:stretch/>
        </p:blipFill>
        <p:spPr>
          <a:xfrm>
            <a:off x="5943600" y="762120"/>
            <a:ext cx="29019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rcRect l="11903" t="8975" r="9524" b="18551"/>
          <a:stretch/>
        </p:blipFill>
        <p:spPr>
          <a:xfrm>
            <a:off x="0" y="28954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78320" y="539424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Мадагаск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09640" y="40068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Шри-Л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223280" y="36576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Сом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20080" y="3124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Индо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105520" y="2971800"/>
            <a:ext cx="4038480" cy="5335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 по происхожд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105520" y="3733920"/>
            <a:ext cx="1904760" cy="1143000"/>
          </a:xfrm>
          <a:prstGeom prst="wedgeRoundRectCallout">
            <a:avLst>
              <a:gd name="adj1" fmla="val 2773"/>
              <a:gd name="adj2" fmla="val -74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лкани-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095880" y="5486400"/>
            <a:ext cx="1828800" cy="990720"/>
          </a:xfrm>
          <a:prstGeom prst="wedgeRoundRectCallout">
            <a:avLst>
              <a:gd name="adj1" fmla="val 2671"/>
              <a:gd name="adj2" fmla="val -251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-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7238880" y="3733920"/>
            <a:ext cx="1905120" cy="1143000"/>
          </a:xfrm>
          <a:prstGeom prst="wedgeRoundRectCallout">
            <a:avLst>
              <a:gd name="adj1" fmla="val 26138"/>
              <a:gd name="adj2" fmla="val -83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ал-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-9</dc:creator>
  <dc:description/>
  <dc:language>en-US</dc:language>
  <cp:lastModifiedBy>Admin</cp:lastModifiedBy>
  <dcterms:modified xsi:type="dcterms:W3CDTF">2012-09-09T12:35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